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489-139A-410E-81AC-DFEF88DC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EEE4-E60F-4172-856A-F06AEC1C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D06-217A-4308-885A-36CDA088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756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512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756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512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6EF-766A-4670-9EF0-1862B36A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1EFD-E5FC-42F8-98BB-4AE193E7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E752-5119-458B-AADD-D2DDCB13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ED70-4201-40A6-8D58-FB28D2FE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62FC-AAAE-4DC1-8F75-C61AE4BE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D635-5ECD-45B7-9056-B9B9E7D4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720" y="554040"/>
            <a:ext cx="8634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12BC-26F3-4D37-A4C4-9D20D934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1672-EEF8-442D-9026-5C0B129A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3CC-4F49-47E7-9597-C173259F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E287-00E4-4EB5-B522-BC7050D4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6DE0-0615-42C2-9BBB-D1D4616A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523E-49BB-4B0C-AACA-20663659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5318-7790-40EE-B2B6-4FEF973E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756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512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0000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756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512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3D7E-C72D-471C-8EE1-1AF2F3ED9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4ACF-BC44-4A8B-B331-BDD6D358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F9B16-661A-40E3-9C91-EA4C1050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B0A6-EE0F-45AF-8FD4-D0AAA5BA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3775-624F-407E-876B-E18B3EBD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CF8E-CF09-4E50-8414-DCAC8D71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7CE9-7B93-4D48-9D7C-B859DCD6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720" y="554040"/>
            <a:ext cx="8634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76DB8-D683-4C5E-A5A6-4778CA3E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A07DE-474C-4A71-B64B-D067524D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D4155-7814-436F-8AC8-0705928E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1F6B-6CEA-4440-97D3-DC2DCF78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5650D-8B6F-48CF-8254-20AC7418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8B453-83BD-4AA5-BD72-3761A06C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9756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9512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0000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9756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9512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F62F0-9D50-4753-8F6C-3C9C0B56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7E6F4-AE11-48EB-AF9C-2A061A9B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4D188-B1A5-4EEF-BDC9-A59BA79C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5CF24-10C9-4D67-BED6-F6AA8AF2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6A77-3C6F-4756-AE1B-17B8E7AA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DB77E-CDAD-4076-BCF0-A157A2B8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C83A9-AE82-4058-9BBB-FCBBC006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720" y="554040"/>
            <a:ext cx="8634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70CFA-DCA6-4410-919A-802B8EAD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980F4-3209-4332-ABE6-F75F42EF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9D28-E883-45FB-9C21-E84E6A7D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7DB6-4D1E-4054-AF7E-A5533839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75328-BD94-4216-8AE2-D1681DF6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C7441-9E5A-498C-A087-CB28EFF3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9756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95120" y="198396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0000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9756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95120" y="4159080"/>
            <a:ext cx="266400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BDD0C-9BF7-4229-AF1E-4D8BA16C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90F-C766-4A5E-8087-25D95BB4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54040"/>
            <a:ext cx="8634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F67-5DBD-4433-96E0-02E1A7A1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7FE-9A9F-4A8E-9ED4-BB545E3D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080" y="415908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41D-93BC-46C7-9F87-4A5E3A17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080" y="1983960"/>
            <a:ext cx="403776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59080"/>
            <a:ext cx="8274240" cy="198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36F-F02B-4731-A6D9-B75F8C7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B3191-241C-415C-AE2C-E73485521EB4}" type="slidenum">
              <a:rPr b="0" lang="en-PH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17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400"/>
            <a:ext cx="88470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878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0000" cy="5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55DF5-AE90-447A-BF12-1E5EBD3265C4}" type="slidenum"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78CE9-B636-47A2-A63A-8C14D8B1315F}" type="slidenum"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720" y="554040"/>
            <a:ext cx="8634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0000" y="1983960"/>
            <a:ext cx="8274240" cy="4164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720" y="645444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47720" y="645444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83000" y="645444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34635-F080-472E-AB79-D7499140AD4C}" type="slidenum">
              <a:rPr b="0" lang="en-PH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20720" y="728640"/>
            <a:ext cx="845964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4000" spc="-1" strike="noStrike">
                <a:solidFill>
                  <a:srgbClr val="ffff00"/>
                </a:solidFill>
                <a:latin typeface="Arial"/>
                <a:ea typeface="Arial Unicode MS"/>
              </a:rPr>
              <a:t>CAPTURING THE STAGES OF LI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Marianne Angelie Ma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  <a:ea typeface="Arial Unicode MS"/>
              </a:rPr>
              <a:t>Christine Mae Ne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360000" y="1619280"/>
            <a:ext cx="4319640" cy="555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164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he unit will be about the Life Cycle. In order for the pupils to grasp the unit, a project will be given to them integrating the use of a camera in capturing the Life Cycle of a Butterfly. A Life Cycle is the process or stages of events of an organism in acquiring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ffff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ffff00"/>
                </a:solidFill>
                <a:latin typeface="Arial"/>
              </a:rPr>
              <a:t>Curriculum Framing Questions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2518920"/>
            <a:ext cx="5580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Arial"/>
              </a:rPr>
              <a:t>Essential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In the absence of one stage, do we still call it a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Arial"/>
              </a:rPr>
              <a:t>Uni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What is a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How is it being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79280" y="610920"/>
            <a:ext cx="4680000" cy="6227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36600" algn="ctr">
              <a:lnSpc>
                <a:spcPct val="93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3200" spc="-1" strike="noStrike">
                <a:solidFill>
                  <a:srgbClr val="ffff00"/>
                </a:solidFill>
                <a:latin typeface="Arial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3000"/>
              </a:lnSpc>
              <a:buSzPct val="100000"/>
              <a:buBlip>
                <a:blip r:embed="rId2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What are the four stages of the life cycle of a butterf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3000"/>
              </a:lnSpc>
              <a:buSzPct val="100000"/>
              <a:buBlip>
                <a:blip r:embed="rId3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What are the different parts of a caterpill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3000"/>
              </a:lnSpc>
              <a:buSzPct val="100000"/>
              <a:buBlip>
                <a:blip r:embed="rId4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What needs must be met for a butterfly completes its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lnSpc>
                <a:spcPct val="93000"/>
              </a:lnSpc>
              <a:buSzPct val="100000"/>
              <a:buBlip>
                <a:blip r:embed="rId5"/>
              </a:buBlip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What are the different parts of a butterfly and why are they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PH" sz="4400" spc="-1" strike="noStrike">
                <a:solidFill>
                  <a:srgbClr val="ffff00"/>
                </a:solidFill>
                <a:latin typeface="Arial"/>
              </a:rPr>
              <a:t>Capturing the Butterfly Cycl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4319640" cy="43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This project will help the pupils develop skills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Collaboration with 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171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ffff00"/>
                </a:solidFill>
                <a:latin typeface="Arial"/>
              </a:rPr>
              <a:t>Obser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3:05:35Z</dcterms:created>
  <dc:creator/>
  <dc:description/>
  <dc:language>en-US</dc:language>
  <cp:lastModifiedBy/>
  <cp:revision>1</cp:revision>
  <dc:subject/>
  <dc:title/>
</cp:coreProperties>
</file>